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D43-BEB2-4EE9-922B-00B3500E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6F9-5C63-41DC-97A1-C8BDDEAF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446-9B1F-4B8D-ADA8-A29EF6A2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5B6-43ED-44DC-97ED-F47C7DA6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FE5-141D-4DC2-8421-4D1B4C1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95B-950A-48D0-BDAF-2A16BF4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303-48B2-402D-85EF-0E96E9E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CEF-AB5A-4008-B7FA-BBD0B65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4C9-32AE-488B-92F9-C0CCA950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4EB-4836-49A3-A360-7F88D2B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B40-8294-49DD-BD13-2915EC08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7D3-1122-4303-83CF-B4F63F7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185-2EB8-4B1C-AB0A-DB90940435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ar Photograp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role Satyamur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195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evai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rbitrary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ing over, taking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andom, without reason or ju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1-30T00:22:50Z</dcterms:modified>
  <cp:revision>28</cp:revision>
  <dc:subject/>
  <dc:title>La Belle Dame Sans Merci</dc:title>
</cp:coreProperties>
</file>